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5BC-8C71-423A-8A37-C5AB4A7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ED9-36AD-43D6-935C-47E9EECC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36F-1B30-4CEF-8D1D-9D3FF007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59D-1105-412C-8978-F97701B6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912-5F25-4ADA-B205-3DE7A5FB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96D-E24B-4712-A35F-CD1DF7E3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C9E-62D7-4258-B4C6-6359CD4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24A-E502-476D-AFE4-1122F581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B88-4140-42B7-BCBD-6635DD0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9B9-29E4-45EA-B3C2-F9BCD12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11E-B979-4D4E-9C91-38537A7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DE5-C74A-4480-B25D-C5B8F1D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C4E9-D5E0-4F84-8CBE-D9183CEE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9999"/>
                </a:solidFill>
                <a:latin typeface="Courier New"/>
              </a:rPr>
              <a:t>First Wave Introductio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5334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4e3fa3"/>
                </a:solidFill>
                <a:latin typeface="Chalkboard"/>
              </a:rPr>
              <a:t>By Alexus R. Micheal D. Teddy H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How Many Kilometers southwest is Maldives from Sri Lan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ow many kilometers east is Kiribati between Hawaii and Fi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Who Are In danger of becoming first victims of drowning of global war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arty LET"/>
              </a:rPr>
              <a:t>The End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10:33Z</dcterms:created>
  <dc:creator>PA Department of Education</dc:creator>
  <dc:description/>
  <dc:language>en-US</dc:language>
  <cp:lastModifiedBy>PA Department of Education</cp:lastModifiedBy>
  <dcterms:modified xsi:type="dcterms:W3CDTF">2009-05-26T17:47:36Z</dcterms:modified>
  <cp:revision>2</cp:revision>
  <dc:subject/>
  <dc:title>First Wave Introduction</dc:title>
</cp:coreProperties>
</file>